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B26B-DC2D-473F-8ACC-B0821E9D4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2EF0D-5941-4C94-AC64-71F453F2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06493-F926-40D2-9207-B0F826405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2E91B-BEA6-4B50-B527-682171B68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0AF73-EA42-4800-882C-E70E46F1A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CB9C-EFBB-4FE1-A223-D391239A6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02C16-FA1C-4514-8F0B-265851744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4CCC6-F27D-4931-9CBD-0985046E9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FBCB-E100-46BD-8F6B-6E6E38F07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4F3D9-2143-4127-99A0-1CDE3BC41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47832-FEA7-49CD-B232-9B9DD256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45D1-FDC7-4C72-BA86-30D1E2CAF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13BE-3061-440C-90BF-C80FB2C25D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362400" y="3273480"/>
            <a:ext cx="241920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c126b"/>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0:58:17Z</dcterms:modified>
  <cp:revision>44</cp:revision>
  <dc:subject/>
  <dc:title>SALARIUL</dc:title>
</cp:coreProperties>
</file>